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FDD-9CFD-46D1-9977-4307B5BC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C1D-C145-45CC-BEA8-2331E765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A32-674A-459F-8C56-CCB31225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B5A-A950-478A-A0AE-FF177DC0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571-1BCA-4927-A856-405FC44E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A72-049D-4C16-8DF5-F7549DBC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E42-A840-4AF3-94DA-78A43F11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3A3-153E-4652-A786-4695C104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8AB-5DC4-4D8D-862F-3A9F6EF4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4E1-8017-4B1B-ADC6-310311DF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51C-D91F-4C68-B355-85618093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9C6-F54C-451A-B99E-C5449B2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1D7E-FEE1-4B2C-B516-AA6DCDADB71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LICATIA SANA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ONT TU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E C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L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E CL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MITERE FIS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IRE FISIER STU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SIRE DIN C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1:27:08Z</dcterms:created>
  <dc:creator>admin2</dc:creator>
  <dc:description/>
  <dc:language>en-US</dc:language>
  <cp:lastModifiedBy>a7med yones</cp:lastModifiedBy>
  <dcterms:modified xsi:type="dcterms:W3CDTF">2012-02-24T21:11:02Z</dcterms:modified>
  <cp:revision>4</cp:revision>
  <dc:subject/>
  <dc:title>Diapozitivul 1</dc:title>
</cp:coreProperties>
</file>